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9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1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12.png" ContentType="image/png"/>
  <Override PartName="/ppt/media/image36.png" ContentType="image/png"/>
  <Override PartName="/ppt/media/image31.jpeg" ContentType="image/jpeg"/>
  <Override PartName="/ppt/media/image25.png" ContentType="image/png"/>
  <Override PartName="/ppt/media/image4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5.jpeg" ContentType="image/jpeg"/>
  <Override PartName="/ppt/media/image4.jpeg" ContentType="image/jpeg"/>
  <Override PartName="/ppt/media/image4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84FF-6B8D-49D7-A660-5ADA014A35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32EF-8899-4D1E-96CB-9AE99D05AB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157A-42D7-42B0-9E36-34B0D9426B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22FE-E7FC-4099-A2F7-AC13425D1E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DD7-31C3-4CCF-B87F-E4177D06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C48-7C63-4BC8-B0CE-C4C8AA05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B8F0E-29AC-4374-A95D-44C2EE68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71EDB-2185-416D-B996-BD52A5C0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CB4F6-86B5-45AA-B9F1-224F16A2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0ECAE-48DA-49B4-9AB6-9D100162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04017-E155-4DEE-BFF6-0EB4DC08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4F128-B2F0-4AAA-9E6B-F32C6940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37D26-9509-4796-A91F-ADBC6DEA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FEA3A-710C-48A9-BAD0-41AB9CDE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5DA4B-5ECD-46F5-9068-E7158671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DD516-C091-4B14-89CE-1F43D2DE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1DD-733F-4050-94D1-86653303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BBFB4-C35D-41FD-A711-51857E3A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B6D10B-3FAC-44C5-B0CD-DC065DE1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E6B70-0162-4480-A8C2-AEC3ADA2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86F64-6F05-4D7E-8DBE-41CBD882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67636-5FD5-49B0-B8DA-90C0EFF6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CE40B-CDC4-4292-8A6D-3397A689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0ACED-48E5-415A-9473-6BF7852F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E790E-EA36-4E8A-B6FD-BDAF5C7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9BCC3-2220-4D2C-BE28-65C8B350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988C9-900A-4323-A9D8-ACC6DE57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B24-DF63-4D41-BF81-ECAFFC27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4D788-FEB2-4329-B6C4-5A195230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150A8-5539-455A-9DCA-D85F9ED8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2C283-303E-4B99-92F9-2324734F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1BFD7-A2BD-4869-BC2E-C7F432AC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1A328-BA6C-4BBD-8721-0C382EA2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10D1A-5A43-4318-AA1C-B1443BBE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0386B-0D63-4A0A-B16B-AE48BE0E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CF329-62FD-4159-9D24-70EA3E81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3CDE3-8F71-4BC2-9352-4A908080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4E620-2DF3-497C-94ED-44842E6B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6BAD-E24B-4846-9915-C46A808D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E68A4-5E91-4325-B2AC-1568A8B6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D2558-97F0-438B-9D35-903BDFEB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F2AA8-F19F-4048-A511-ABD16A9B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7D5B6-DC1C-4C64-9D94-B3607865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B83EE-800D-42CB-9EBD-4CFF6D1A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77471-2EEC-46D9-A331-6ED52440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8075D-4D6C-40BB-AEE8-E9E1DCD4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F5826-687C-4756-BDE8-D3AA63B7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94E22D-C8B3-4344-8293-E8E7F486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1B851-1417-445B-9EBF-C3DCEB72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F059-05AE-4753-AA74-9F00F6D2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D627D-B029-4586-B5C8-F9985B3D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01EF9-CFA3-43C6-A39E-8785ABE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B04D1-35F3-4871-ABE1-A5BF65A7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91F7E-4336-4AB8-874E-954FDBC9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2339F-D654-4EEE-AF52-0ACB6D0A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CE16-BADE-4165-BB17-7EDA5BCE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22FC-61B8-47BD-AB24-E97E7EE8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CAA7-3788-4C0C-9768-D8BBD031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AE94-0E26-4E47-9348-BCBC8600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47AD-252D-4A3D-9A7B-A6AE5141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B9F-076A-4156-9E22-796DC28F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103F-81F4-4A2D-916C-8ECF7D89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0D43-6B87-4FB4-BBE5-10F42A25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9C29-417B-440D-8544-9F5F2540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016F-2EC0-4042-8D23-703D67CC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B52B-C86D-4BD2-9CB1-6BD1F955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7B0E-4450-480C-A664-80A87DFD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9E49-85AB-4C97-ADA6-FF09463E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DB69-9797-4EEC-B618-D2767187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D399-3832-40B9-A2CD-2225CBA3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9D0DD-295F-4179-A523-D1845320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292-CE45-4C37-B33F-C2FD221F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51BB-082E-4389-A7F1-E7D1CE92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B4567-DA47-4972-B8AD-804115D4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408C-C022-442C-B6FF-85CDC1C3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A7C2-7901-4012-B13F-9B51F15B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5A16-4CF1-494B-B5E8-B4F811D3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56AC-5E43-4BDE-9E97-2DA25666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3A069-D5A6-4812-A48D-C41F02A2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B968E-697A-4A6B-AC39-4C743171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5B169-557F-4321-AB5C-05ED0B3E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F20DF-3F61-467E-87C0-A863B858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930-3EF0-4C7B-A392-C264D4A5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A1CB2-8933-4DAC-81E1-D1163D8A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CBDA0-393A-4995-883F-43CC1238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C4661-9E55-466D-B344-B92B34DD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AD63-869D-48FC-8647-21C4457E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AC390-4E18-4914-9C2E-E7BAD406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787A-D548-48F2-878B-487201FC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AE61A-7B62-463B-9C8E-9BF62A02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3A9C-AC0C-4468-99BF-85557014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175E5-1AFF-4BD7-A4D1-34DCADF0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E42D0-7224-4B1F-ADA1-A7EF08CF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990-90A2-4F85-A200-5D792ACC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9BB4E-BEF3-4284-9FBB-A28A7B1B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910D7-A7CB-457E-8872-100854D5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61C2-B459-4880-B9AA-DACF0A6F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E6915-DD28-421E-AAC3-56994287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FFEBE-4888-4762-9D5D-0BCC5898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9A7DB-04EB-4FAE-8749-4C5DE95C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C865F-7CC9-4071-B582-9F7C75C1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47030-39E9-41CB-BB61-4BA34E88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096F4-5A0D-424B-8375-BA6BBFA4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FE01C-9CC9-4178-878D-9A7C7B9B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6EB-5B83-4909-BF5B-C7465723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BF321-6549-4B6A-90A0-BE881C06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8C6DB-29E0-4FC6-A948-F2FA29FE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FBD33-E10D-4C42-B5D7-BE157B60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5DED8-A32F-4B6F-B906-DF8D772C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C8EEA-5771-4022-B7A2-D0D99565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EF7DA-8A2A-4507-8100-E7F8B3AA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E02B9-5C22-472D-8A22-60366B8A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FB5DB-EB00-41D4-A46A-CB533803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F655B-BF79-4E3B-B963-1FC0666A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82439-88C4-4921-AAE6-D05C4A0D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8B8-0727-47E7-A381-A753FC89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2E1EC-C9C1-4E40-A066-287A645A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96793-15B3-43B1-9B5B-A302614B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6BFE2-FF0F-4F1A-8A79-C4B3268D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DF9F7-2741-4450-A6B4-C23DE845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AFADB-E7BB-4F73-A0CA-ADA1CD6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7B1D2-14D9-4A21-AB46-4BE9D2F1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CC6E5-4262-4A53-9011-40A3F0B0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A6587-B038-47F0-AB8A-1AF3DA38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7D3AA-37E4-40F9-BA2D-35AE5067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65800-BF4C-4A5B-8F02-9975F628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D22-236F-4285-8CE3-2E26FEF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8CD2C-CAE0-4763-9537-545AA595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FFF8B-FC0D-4CFC-9E3E-797C5C5A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9B5F8-2C27-46E0-9074-0DEDFB1B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79FE0-9244-4F55-85CF-2167D252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36C6B-11DD-45A3-A8A8-067B1ED5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87E49-29E9-4457-8A73-2DC74139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A23E4-11EC-4EF0-B56A-B082848C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A5F5D-78D9-4B95-8B48-4435017B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A2132-D493-409C-9F69-834FF0E3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E1028-62D4-4A7C-B8E6-E4314999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933-16C2-4D4A-B009-7CD9A345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F3A02-A9B2-442F-9BFA-518124EC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728CC-BD34-43B9-BFE8-CCEA9C73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CBBCA-9EEB-47F7-B2E7-77A661C9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2DBD3-4E2E-4C73-8DAF-FB21C2CE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C6E3A-8538-491D-B96B-1E83A72C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1722B-E8D6-41D4-9AF7-9005B811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1AA60-7E33-48EE-BB63-58E6A5CC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AA46D-5D09-43B2-A4C8-4B67E404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55319-AE25-4F7A-B5CD-6C591297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9F8E0-622B-42B5-8F8A-FC710310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24E0-C8A2-4347-BAB3-836E0B016D98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3F59-3E78-4983-BF1F-80A20009EA1A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C8D2-F9A6-4719-B147-D867EBE8ADCB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E3F1-73B2-43AB-933D-1EBA5FF807FF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A2E9-F486-4334-8111-D6EA0B239EFC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65C6-390D-4803-8D79-BB70AFCC2270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8357-F4F4-472D-8DCC-52C6BB145F2C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A989-310F-46C1-B80B-EEE4C142913D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6646-ADF9-4B7F-8810-51080DA6B13D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4C75-8F44-4FD7-A37F-51E88CED6388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4165-02D4-4B68-A0E1-5245CC77B99B}" type="slidenum">
              <a:rPr b="0" lang="en-GB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CA34-417F-4D17-A0D6-6FC324CFB878}" type="slidenum">
              <a:rPr b="0" lang="en-GB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7" descr="KiwiYogurtsmoothie.jpg"/>
          <p:cNvPicPr/>
          <p:nvPr/>
        </p:nvPicPr>
        <p:blipFill>
          <a:blip r:embed="rId1"/>
          <a:stretch/>
        </p:blipFill>
        <p:spPr>
          <a:xfrm>
            <a:off x="0" y="-171360"/>
            <a:ext cx="9947160" cy="712944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Georgia"/>
              </a:rPr>
              <a:t>GROUP B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MARIANNA CHRISTOFI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YASHORAJVARDHINI NIMBALKA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HUIYING SHANG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RONG LU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eorgia"/>
              </a:rPr>
              <a:t>ZHUN WANG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Food 5450M Industrial Project: Food Innovation</a:t>
            </a:r>
            <a:br>
              <a:rPr sz="2800"/>
            </a:br>
            <a:br>
              <a:rPr sz="3800"/>
            </a:br>
            <a:r>
              <a:rPr b="0" i="1" lang="en-GB" sz="3600" spc="-1" strike="noStrike">
                <a:solidFill>
                  <a:srgbClr val="e46c0a"/>
                </a:solidFill>
                <a:latin typeface="Georgia"/>
              </a:rPr>
              <a:t>Yogurt based food: </a:t>
            </a: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‘Soy yogurt drink with kiwi Flavour’ </a:t>
            </a: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e46c0a"/>
                </a:solidFill>
                <a:latin typeface="Georgia"/>
              </a:rPr>
              <a:t>Unit III: </a:t>
            </a:r>
            <a:r>
              <a:rPr b="0" lang="en-GB" sz="3800" spc="-1" strike="noStrike">
                <a:solidFill>
                  <a:srgbClr val="e46c0a"/>
                </a:solidFill>
                <a:latin typeface="Georgia"/>
              </a:rPr>
              <a:t>Defining product and process specifications </a:t>
            </a:r>
            <a:endParaRPr b="0" lang="en-US" sz="38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6" name="TextBox 3"/>
          <p:cNvSpPr/>
          <p:nvPr/>
        </p:nvSpPr>
        <p:spPr>
          <a:xfrm>
            <a:off x="8459640" y="620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Georgia"/>
              </a:rPr>
              <a:t>Laboratory Process Flowchart – </a:t>
            </a:r>
            <a:r>
              <a:rPr b="0" i="1" lang="en-US" sz="3200" spc="-1" strike="noStrike">
                <a:solidFill>
                  <a:srgbClr val="e46c0a"/>
                </a:solidFill>
                <a:latin typeface="Georgia"/>
              </a:rPr>
              <a:t>Kiwi juice extraction</a:t>
            </a: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52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577360" cy="4584960"/>
          </a:xfrm>
          <a:prstGeom prst="rect">
            <a:avLst/>
          </a:prstGeom>
          <a:ln w="0">
            <a:noFill/>
          </a:ln>
        </p:spPr>
      </p:pic>
      <p:sp>
        <p:nvSpPr>
          <p:cNvPr id="653" name="Right Arrow 4"/>
          <p:cNvSpPr/>
          <p:nvPr/>
        </p:nvSpPr>
        <p:spPr>
          <a:xfrm>
            <a:off x="179280" y="321300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7709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ight Arrow 5"/>
          <p:cNvSpPr/>
          <p:nvPr/>
        </p:nvSpPr>
        <p:spPr>
          <a:xfrm>
            <a:off x="8532720" y="3141720"/>
            <a:ext cx="360360" cy="3585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e57709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Laboratory Process Flowchart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56" name="Content Placeholder 3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8523360" cy="4584960"/>
          </a:xfrm>
          <a:prstGeom prst="rect">
            <a:avLst/>
          </a:prstGeom>
          <a:ln w="0">
            <a:noFill/>
          </a:ln>
        </p:spPr>
      </p:pic>
      <p:pic>
        <p:nvPicPr>
          <p:cNvPr id="657" name="Diagram 6" descr=""/>
          <p:cNvPicPr/>
          <p:nvPr/>
        </p:nvPicPr>
        <p:blipFill>
          <a:blip r:embed="rId2"/>
          <a:stretch/>
        </p:blipFill>
        <p:spPr>
          <a:xfrm>
            <a:off x="1481040" y="1335240"/>
            <a:ext cx="6973920" cy="4078080"/>
          </a:xfrm>
          <a:prstGeom prst="rect">
            <a:avLst/>
          </a:prstGeom>
          <a:ln w="0">
            <a:noFill/>
          </a:ln>
        </p:spPr>
      </p:pic>
      <p:sp>
        <p:nvSpPr>
          <p:cNvPr id="658" name="Right Arrow 7"/>
          <p:cNvSpPr/>
          <p:nvPr/>
        </p:nvSpPr>
        <p:spPr>
          <a:xfrm>
            <a:off x="250920" y="2708280"/>
            <a:ext cx="576000" cy="36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7709"/>
                </a:solidFill>
                <a:latin typeface="Georgia"/>
              </a:rPr>
              <a:t>Industrial Flow Char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1" name="Picture 3" descr="15209342-kiwi-and-yoghurt.jpg"/>
          <p:cNvPicPr/>
          <p:nvPr/>
        </p:nvPicPr>
        <p:blipFill>
          <a:blip r:embed="rId1"/>
          <a:stretch/>
        </p:blipFill>
        <p:spPr>
          <a:xfrm>
            <a:off x="3564000" y="3789360"/>
            <a:ext cx="18000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Industrial processing carries three lin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Flowchart: Alternate Process 7"/>
          <p:cNvSpPr/>
          <p:nvPr/>
        </p:nvSpPr>
        <p:spPr>
          <a:xfrm>
            <a:off x="755640" y="4076640"/>
            <a:ext cx="2087640" cy="720720"/>
          </a:xfrm>
          <a:prstGeom prst="flowChartAlternateProcess">
            <a:avLst/>
          </a:prstGeom>
          <a:solidFill>
            <a:srgbClr val="fbd8c8"/>
          </a:solidFill>
          <a:ln w="9360">
            <a:solidFill>
              <a:srgbClr val="f79646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ws yog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lowchart: Alternate Process 8"/>
          <p:cNvSpPr/>
          <p:nvPr/>
        </p:nvSpPr>
        <p:spPr>
          <a:xfrm>
            <a:off x="4067280" y="4076640"/>
            <a:ext cx="1944720" cy="647640"/>
          </a:xfrm>
          <a:prstGeom prst="flowChartAlternateProcess">
            <a:avLst/>
          </a:prstGeom>
          <a:solidFill>
            <a:srgbClr val="fac090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y yog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lowchart: Alternate Process 9"/>
          <p:cNvSpPr/>
          <p:nvPr/>
        </p:nvSpPr>
        <p:spPr>
          <a:xfrm>
            <a:off x="6948360" y="4005360"/>
            <a:ext cx="1944720" cy="647640"/>
          </a:xfrm>
          <a:prstGeom prst="flowChartAlternateProcess">
            <a:avLst/>
          </a:prstGeom>
          <a:solidFill>
            <a:srgbClr val="92d050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Kiwi ju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own Arrow 11"/>
          <p:cNvSpPr/>
          <p:nvPr/>
        </p:nvSpPr>
        <p:spPr>
          <a:xfrm>
            <a:off x="4643280" y="2492280"/>
            <a:ext cx="576360" cy="9795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Down Arrow 12"/>
          <p:cNvSpPr/>
          <p:nvPr/>
        </p:nvSpPr>
        <p:spPr>
          <a:xfrm>
            <a:off x="7667640" y="2492280"/>
            <a:ext cx="649440" cy="97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Down Arrow 13"/>
          <p:cNvSpPr/>
          <p:nvPr/>
        </p:nvSpPr>
        <p:spPr>
          <a:xfrm>
            <a:off x="1547640" y="2565360"/>
            <a:ext cx="576360" cy="9349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46c0a"/>
                </a:solidFill>
                <a:latin typeface="Georgia"/>
              </a:rPr>
              <a:t>Cows yogurt and Soy yogurt (Line 1 and 2)</a:t>
            </a: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71" name="Content Placeholder 3" descr=""/>
          <p:cNvPicPr/>
          <p:nvPr/>
        </p:nvPicPr>
        <p:blipFill>
          <a:blip r:embed="rId1"/>
          <a:stretch/>
        </p:blipFill>
        <p:spPr>
          <a:xfrm>
            <a:off x="396720" y="1122480"/>
            <a:ext cx="8350560" cy="5010120"/>
          </a:xfrm>
          <a:prstGeom prst="rect">
            <a:avLst/>
          </a:prstGeom>
          <a:ln w="0">
            <a:noFill/>
          </a:ln>
        </p:spPr>
      </p:pic>
      <p:sp>
        <p:nvSpPr>
          <p:cNvPr id="672" name="Right Arrow 5"/>
          <p:cNvSpPr/>
          <p:nvPr/>
        </p:nvSpPr>
        <p:spPr>
          <a:xfrm>
            <a:off x="8459640" y="2276640"/>
            <a:ext cx="505080" cy="288720"/>
          </a:xfrm>
          <a:prstGeom prst="rightArrow">
            <a:avLst>
              <a:gd name="adj1" fmla="val 50000"/>
              <a:gd name="adj2" fmla="val 50060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46c0a"/>
                </a:solidFill>
                <a:latin typeface="Georgia"/>
              </a:rPr>
              <a:t>Cows yogurt and Soy yogurt (Line 1 and 2)</a:t>
            </a: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74" name="Content Placeholder 3" descr=""/>
          <p:cNvPicPr/>
          <p:nvPr/>
        </p:nvPicPr>
        <p:blipFill>
          <a:blip r:embed="rId1"/>
          <a:stretch/>
        </p:blipFill>
        <p:spPr>
          <a:xfrm>
            <a:off x="237960" y="1494000"/>
            <a:ext cx="8607600" cy="4614840"/>
          </a:xfrm>
          <a:prstGeom prst="rect">
            <a:avLst/>
          </a:prstGeom>
          <a:ln w="0">
            <a:noFill/>
          </a:ln>
        </p:spPr>
      </p:pic>
      <p:sp>
        <p:nvSpPr>
          <p:cNvPr id="675" name="Right Arrow 4"/>
          <p:cNvSpPr/>
          <p:nvPr/>
        </p:nvSpPr>
        <p:spPr>
          <a:xfrm>
            <a:off x="0" y="1916280"/>
            <a:ext cx="468360" cy="28872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Kiwi juice (Line 3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77" name="Content Placeholder 3" descr=""/>
          <p:cNvPicPr/>
          <p:nvPr/>
        </p:nvPicPr>
        <p:blipFill>
          <a:blip r:embed="rId1"/>
          <a:stretch/>
        </p:blipFill>
        <p:spPr>
          <a:xfrm>
            <a:off x="244440" y="1523880"/>
            <a:ext cx="8618400" cy="4584960"/>
          </a:xfrm>
          <a:prstGeom prst="rect">
            <a:avLst/>
          </a:prstGeom>
          <a:ln w="0">
            <a:noFill/>
          </a:ln>
        </p:spPr>
      </p:pic>
      <p:sp>
        <p:nvSpPr>
          <p:cNvPr id="678" name="Right Arrow 6"/>
          <p:cNvSpPr/>
          <p:nvPr/>
        </p:nvSpPr>
        <p:spPr>
          <a:xfrm>
            <a:off x="8317080" y="2492280"/>
            <a:ext cx="647640" cy="3603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Kiwi juice (Line 3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80" name="Content Placeholder 3" descr=""/>
          <p:cNvPicPr/>
          <p:nvPr/>
        </p:nvPicPr>
        <p:blipFill>
          <a:blip r:embed="rId1"/>
          <a:stretch/>
        </p:blipFill>
        <p:spPr>
          <a:xfrm>
            <a:off x="298440" y="1523880"/>
            <a:ext cx="8516880" cy="4584960"/>
          </a:xfrm>
          <a:prstGeom prst="rect">
            <a:avLst/>
          </a:prstGeom>
          <a:ln w="0">
            <a:noFill/>
          </a:ln>
        </p:spPr>
      </p:pic>
      <p:sp>
        <p:nvSpPr>
          <p:cNvPr id="681" name="Right Arrow 4"/>
          <p:cNvSpPr/>
          <p:nvPr/>
        </p:nvSpPr>
        <p:spPr>
          <a:xfrm>
            <a:off x="0" y="2708280"/>
            <a:ext cx="539640" cy="3603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ight Arrow 5"/>
          <p:cNvSpPr/>
          <p:nvPr/>
        </p:nvSpPr>
        <p:spPr>
          <a:xfrm>
            <a:off x="8532720" y="2708280"/>
            <a:ext cx="611280" cy="433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Kiwi juice (Line 3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84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631360" cy="4584960"/>
          </a:xfrm>
          <a:prstGeom prst="rect">
            <a:avLst/>
          </a:prstGeom>
          <a:ln w="0">
            <a:noFill/>
          </a:ln>
        </p:spPr>
      </p:pic>
      <p:sp>
        <p:nvSpPr>
          <p:cNvPr id="685" name="Right Arrow 4"/>
          <p:cNvSpPr/>
          <p:nvPr/>
        </p:nvSpPr>
        <p:spPr>
          <a:xfrm>
            <a:off x="0" y="2565360"/>
            <a:ext cx="46836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ight Arrow 5"/>
          <p:cNvSpPr/>
          <p:nvPr/>
        </p:nvSpPr>
        <p:spPr>
          <a:xfrm>
            <a:off x="8532720" y="2492280"/>
            <a:ext cx="50328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Kiwi juice (Line 3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88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631360" cy="4584960"/>
          </a:xfrm>
          <a:prstGeom prst="rect">
            <a:avLst/>
          </a:prstGeom>
          <a:ln w="0">
            <a:noFill/>
          </a:ln>
        </p:spPr>
      </p:pic>
      <p:sp>
        <p:nvSpPr>
          <p:cNvPr id="689" name="Right Arrow 4"/>
          <p:cNvSpPr/>
          <p:nvPr/>
        </p:nvSpPr>
        <p:spPr>
          <a:xfrm>
            <a:off x="0" y="2708280"/>
            <a:ext cx="468360" cy="4334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ight Arrow 5"/>
          <p:cNvSpPr/>
          <p:nvPr/>
        </p:nvSpPr>
        <p:spPr>
          <a:xfrm>
            <a:off x="8675640" y="2565360"/>
            <a:ext cx="468360" cy="432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39160" cy="69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46c0a"/>
                </a:solidFill>
                <a:latin typeface="Georgia"/>
              </a:rPr>
              <a:t>Introduction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39640" y="1483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1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Aim :</a:t>
            </a: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develop and optimize the final product  defining the product and process specifications  b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developing the process and  equipment flowchart according to legislation specific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conducting consumer sensory and descriptive analysi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Kiwi juice (Line 3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92" name="Content Placeholder 3" descr=""/>
          <p:cNvPicPr/>
          <p:nvPr/>
        </p:nvPicPr>
        <p:blipFill>
          <a:blip r:embed="rId1"/>
          <a:stretch/>
        </p:blipFill>
        <p:spPr>
          <a:xfrm>
            <a:off x="249120" y="1523880"/>
            <a:ext cx="8609040" cy="4584960"/>
          </a:xfrm>
          <a:prstGeom prst="rect">
            <a:avLst/>
          </a:prstGeom>
          <a:ln w="0">
            <a:noFill/>
          </a:ln>
        </p:spPr>
      </p:pic>
      <p:sp>
        <p:nvSpPr>
          <p:cNvPr id="693" name="Right Arrow 4"/>
          <p:cNvSpPr/>
          <p:nvPr/>
        </p:nvSpPr>
        <p:spPr>
          <a:xfrm>
            <a:off x="0" y="2637000"/>
            <a:ext cx="539640" cy="431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ight Arrow 5"/>
          <p:cNvSpPr/>
          <p:nvPr/>
        </p:nvSpPr>
        <p:spPr>
          <a:xfrm>
            <a:off x="8532720" y="263700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Kiwi juice (Line 3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96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601120" cy="4668840"/>
          </a:xfrm>
          <a:prstGeom prst="rect">
            <a:avLst/>
          </a:prstGeom>
          <a:ln w="0">
            <a:noFill/>
          </a:ln>
        </p:spPr>
      </p:pic>
      <p:sp>
        <p:nvSpPr>
          <p:cNvPr id="697" name="Right Arrow 4"/>
          <p:cNvSpPr/>
          <p:nvPr/>
        </p:nvSpPr>
        <p:spPr>
          <a:xfrm>
            <a:off x="0" y="2349360"/>
            <a:ext cx="539640" cy="3589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79646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933c"/>
                </a:solidFill>
                <a:latin typeface="Georgia"/>
              </a:rPr>
              <a:t>                  </a:t>
            </a:r>
            <a:r>
              <a:rPr b="0" lang="en-GB" sz="4400" spc="-1" strike="noStrike">
                <a:solidFill>
                  <a:srgbClr val="e57709"/>
                </a:solidFill>
                <a:latin typeface="Georgia"/>
              </a:rPr>
              <a:t>Equipmen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Equipments Selection Principl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Capacity    5000----10000 units 2500l/d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Standar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Processing requir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CI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M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HACC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Co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01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e46c0a"/>
                </a:solidFill>
                <a:latin typeface="Georgia"/>
              </a:rPr>
              <a:t>Equipment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403280" y="2565000"/>
            <a:ext cx="640080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4f81bd"/>
                </a:solidFill>
                <a:latin typeface="Georgia"/>
              </a:rPr>
              <a:t> </a:t>
            </a:r>
            <a:r>
              <a:rPr b="1" lang="en-GB" sz="1700" spc="-1" strike="noStrike">
                <a:solidFill>
                  <a:srgbClr val="4f81bd"/>
                </a:solidFill>
                <a:latin typeface="Georgia"/>
              </a:rPr>
              <a:t>TANK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STORAGE TANK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FERMENTATION TANK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MULTIPURPOSE TANK; FERMENTATION ONLY TANK;FERMENTATION/COOLING TANK   2500LITER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        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4f81bd"/>
                </a:solidFill>
                <a:latin typeface="Georgia"/>
              </a:rPr>
              <a:t> </a:t>
            </a:r>
            <a:r>
              <a:rPr b="1" lang="en-GB" sz="1700" spc="-1" strike="noStrike">
                <a:solidFill>
                  <a:srgbClr val="4f81bd"/>
                </a:solidFill>
                <a:latin typeface="Georgia"/>
              </a:rPr>
              <a:t>SEPARATOR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THE TS-500-O SEPARATOR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THE FINAL FAT CONTENT OF THE PROCESS MILK IS WITHIN PRESET LIMITS (FROM 0% TO 3.5% 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7716960" y="0"/>
            <a:ext cx="1427040" cy="227664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22320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4" descr=""/>
          <p:cNvPicPr/>
          <p:nvPr/>
        </p:nvPicPr>
        <p:blipFill>
          <a:blip r:embed="rId3"/>
          <a:stretch/>
        </p:blipFill>
        <p:spPr>
          <a:xfrm>
            <a:off x="0" y="4724280"/>
            <a:ext cx="1403280" cy="21337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"/>
          <p:cNvPicPr/>
          <p:nvPr/>
        </p:nvPicPr>
        <p:blipFill>
          <a:blip r:embed="rId4"/>
          <a:stretch/>
        </p:blipFill>
        <p:spPr>
          <a:xfrm>
            <a:off x="7734240" y="4292640"/>
            <a:ext cx="14097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Equipment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f81bd"/>
                </a:solidFill>
                <a:latin typeface="Georgia"/>
              </a:rPr>
              <a:t>Bath pasteruriz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500-1,000 L/Batch,65°C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f81bd"/>
                </a:solidFill>
                <a:latin typeface="Georgia"/>
              </a:rPr>
              <a:t>Homogeniz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e TH-025 homogenizer ,500L per hour 0-65°C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f81bd"/>
                </a:solidFill>
                <a:latin typeface="Georgia"/>
              </a:rPr>
              <a:t>Cooling syste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e cooling system (TC-6000) temperature ranges from 2-4°C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f81bd"/>
                </a:solidFill>
                <a:latin typeface="Georgia"/>
              </a:rPr>
              <a:t>Filling machin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e Dogaseptic seri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4f81bd"/>
                </a:solidFill>
                <a:latin typeface="Georgia"/>
              </a:rPr>
              <a:t>Ble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asti DOGAmix 60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0" name="Picture 2" descr="\\ds.leeds.ac.uk\student\student42\fs10zw\My Pictures\BatchPast2.jpg"/>
          <p:cNvPicPr/>
          <p:nvPr/>
        </p:nvPicPr>
        <p:blipFill>
          <a:blip r:embed="rId1"/>
          <a:stretch/>
        </p:blipFill>
        <p:spPr>
          <a:xfrm>
            <a:off x="7885080" y="0"/>
            <a:ext cx="1117800" cy="14605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\\ds.leeds.ac.uk\student\student42\fs10zw\My Pictures\High_Pressure_Homogenizer.jpg"/>
          <p:cNvPicPr/>
          <p:nvPr/>
        </p:nvPicPr>
        <p:blipFill>
          <a:blip r:embed="rId2"/>
          <a:stretch/>
        </p:blipFill>
        <p:spPr>
          <a:xfrm>
            <a:off x="6804000" y="4005360"/>
            <a:ext cx="1978200" cy="22939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" descr="USGCCAFTK4QNCAJATV87CA4GNQ0XCA3IMF68CAS39P37CABCLPJOCAOLRDZQCAC8EZV5CATX0NA9CAEEPLXFCAWZ8B1ZCAP2GDF5CA0WPPQDCAJ9RO1ICA6G6MWMCA62FYZKCANSTWLFCAGPLIYXCAL58IWL.jpg"/>
          <p:cNvPicPr/>
          <p:nvPr/>
        </p:nvPicPr>
        <p:blipFill>
          <a:blip r:embed="rId3"/>
          <a:stretch/>
        </p:blipFill>
        <p:spPr>
          <a:xfrm>
            <a:off x="611280" y="260280"/>
            <a:ext cx="12967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0920" y="7984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Equipment</a:t>
            </a:r>
            <a:br>
              <a:rPr sz="3600"/>
            </a:b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f81bd"/>
                </a:solidFill>
                <a:latin typeface="Georgia"/>
              </a:rPr>
              <a:t>Deaerato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FrymaKoruma Vacuum Deaerating Unit type V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f81bd"/>
                </a:solidFill>
                <a:latin typeface="Georgia"/>
              </a:rPr>
              <a:t>Labelling machin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Heat exchanger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plate heat exchanger (PHE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tubular heat exchanger, including the multitube or multichannel desig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scraped/swept surface heat exchanger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f81bd"/>
                </a:solidFill>
                <a:latin typeface="Georgia"/>
              </a:rPr>
              <a:t>CIP system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5" name="Picture 3" descr="69R1CADCWPZCCAI1F621CAJHA0PPCAQIB5HICALC3LD1CAH9ODXICAFITMJNCA64K9CQCA6UCZMOCA55QAS2CAAAHK8DCAOLSBIICAT9N0AJCAL64UYECAS2VTFZCAT6Y1NPCA1ZJW11CAZD73MTCA0EALE4.jpg"/>
          <p:cNvPicPr/>
          <p:nvPr/>
        </p:nvPicPr>
        <p:blipFill>
          <a:blip r:embed="rId1"/>
          <a:stretch/>
        </p:blipFill>
        <p:spPr>
          <a:xfrm>
            <a:off x="7451640" y="0"/>
            <a:ext cx="1516320" cy="19969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4" descr="8N43CA2WYQG9CAFQBOAFCA8U4R9NCA7TDKD8CA50HJSDCAQ985DXCAYV4NRZCA3S35C8CASZKOEUCA4VS5OJCACHD3DNCANJNM4NCA0C0SH3CANFQVURCAPCVETHCA19K2WMCAFGIQD6CAQR0SSSCAU29VUP.jpg"/>
          <p:cNvPicPr/>
          <p:nvPr/>
        </p:nvPicPr>
        <p:blipFill>
          <a:blip r:embed="rId2"/>
          <a:stretch/>
        </p:blipFill>
        <p:spPr>
          <a:xfrm>
            <a:off x="179280" y="189000"/>
            <a:ext cx="1474920" cy="13683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D2WDCA7L7S5NCAXOBO0WCA8FQWIVCA39PDJ2CA11AQE7CAPVBQFNCA3AOS6VCAX1X4I5CATI77TKCARSUQB2CAPE67R9CAXFCWV7CAQ4819LCA474QSECA9AHIBACA13GVVVCA5VVYASCAIXCP6PCA3TONBC.jpg"/>
          <p:cNvPicPr/>
          <p:nvPr/>
        </p:nvPicPr>
        <p:blipFill>
          <a:blip r:embed="rId3"/>
          <a:stretch/>
        </p:blipFill>
        <p:spPr>
          <a:xfrm>
            <a:off x="7093080" y="4300560"/>
            <a:ext cx="151740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Regula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Drinking yogurt-------yogurt produc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Flavoured fermented milk-------not contain more than 15% of fru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milk protein in fermented milk and yogurt &gt;2.7%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Milk fat in fermented milk &lt;10% and &lt;15% in yogur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Acidity (expressed as the percentage of lactic acid) of fermented milk &gt;0.3% and 0.6% in yogur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Sum of the microorganisms constituting started culture &gt; 10</a:t>
            </a:r>
            <a:r>
              <a:rPr b="0" lang="en-GB" sz="2700" spc="-1" strike="noStrike" baseline="30000">
                <a:solidFill>
                  <a:srgbClr val="000000"/>
                </a:solidFill>
                <a:latin typeface="Georgia"/>
              </a:rPr>
              <a:t>7</a:t>
            </a: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in both fermented milk and yogu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Regula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4f81bd"/>
                </a:solidFill>
                <a:uFillTx/>
                <a:latin typeface="Georgia"/>
              </a:rPr>
              <a:t>Pasteur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Temperature&gt;71.7°C for 15 seconds 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&gt;62.8°C for 30 minutes then cooled to 10°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4f81bd"/>
                </a:solidFill>
                <a:uFillTx/>
                <a:latin typeface="Georgia"/>
              </a:rPr>
              <a:t>Label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list of ingredients.  Food Labelling regulation (1996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Allergies Information :milk ,so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2_tuchenhagen_new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3"/>
          <p:cNvSpPr/>
          <p:nvPr/>
        </p:nvSpPr>
        <p:spPr>
          <a:xfrm>
            <a:off x="685800" y="1219320"/>
            <a:ext cx="7924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方正舒体"/>
              </a:rPr>
              <a:t>食品工厂设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4" descr="desig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5"/>
          <p:cNvSpPr/>
          <p:nvPr/>
        </p:nvSpPr>
        <p:spPr>
          <a:xfrm>
            <a:off x="611280" y="7650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400" spc="-1" strike="noStrike">
                <a:solidFill>
                  <a:srgbClr val="77933c"/>
                </a:solidFill>
                <a:latin typeface="Georgia"/>
                <a:ea typeface="方正舒体"/>
              </a:rPr>
              <a:t>Fact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1216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46c0a"/>
                </a:solidFill>
                <a:latin typeface="Georgia"/>
              </a:rPr>
              <a:t>Outline</a:t>
            </a:r>
            <a:endParaRPr b="0" lang="en-US" sz="4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24000" y="1341360"/>
            <a:ext cx="8650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Process  and equipment flowcharts for both laboratory and industrial scal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Factory layout for the production proc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esign experiments for conducting product &amp; process optimisation (Screening + Optimisat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nduct sensory consumer &amp; descriptive analys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Specify product &amp; process formulations and determine whether are in compliance with relevant legisla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Factory Layout Desig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50920" y="141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sure appropriate layout to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y with Accreditation Standard requir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gislative requirem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fficient utilisation of resour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600" spc="-1" strike="noStrike">
                <a:solidFill>
                  <a:srgbClr val="e46c0a"/>
                </a:solidFill>
                <a:latin typeface="Georgia"/>
                <a:ea typeface="方正舒体"/>
              </a:rPr>
              <a:t>Plan of layout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Raw material warehou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Production are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Packaging worksh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Refrigeration pla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Laborato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Locker room and toile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Electricity substation room and machine repair sh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Georgia"/>
              </a:rPr>
              <a:t>Reserving are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1" descr="layout desig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300" spc="-1" strike="noStrike">
                <a:solidFill>
                  <a:srgbClr val="e46c0a"/>
                </a:solidFill>
                <a:latin typeface="Georgia"/>
                <a:ea typeface="方正舒体"/>
              </a:rPr>
              <a:t>Important point for layout design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250560" y="1341000"/>
            <a:ext cx="8569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700" spc="-1" strike="noStrike">
                <a:solidFill>
                  <a:srgbClr val="000000"/>
                </a:solidFill>
                <a:latin typeface="Georgia"/>
                <a:ea typeface="方正舒体"/>
              </a:rPr>
              <a:t>All functions should processed with no criss-crossing and backtrac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700" spc="-1" strike="noStrike">
                <a:solidFill>
                  <a:srgbClr val="000000"/>
                </a:solidFill>
                <a:latin typeface="Georgia"/>
                <a:ea typeface="方正舒体"/>
              </a:rPr>
              <a:t>Visitors should move from clean to unclean area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700" spc="-1" strike="noStrike">
                <a:solidFill>
                  <a:srgbClr val="000000"/>
                </a:solidFill>
                <a:latin typeface="Georgia"/>
                <a:ea typeface="方正舒体"/>
              </a:rPr>
              <a:t>Ingredients should move from dirty and clean areas as they become incorporated into food produc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700" spc="-1" strike="noStrike">
                <a:solidFill>
                  <a:srgbClr val="000000"/>
                </a:solidFill>
                <a:latin typeface="Georgia"/>
                <a:ea typeface="方正舒体"/>
              </a:rPr>
              <a:t>Conditioned air and drainage should flow from clean to dirty area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700" spc="-1" strike="noStrike">
                <a:solidFill>
                  <a:srgbClr val="000000"/>
                </a:solidFill>
                <a:latin typeface="Georgia"/>
                <a:ea typeface="方正舒体"/>
              </a:rPr>
              <a:t>The flow of discarded outer packing material should not cross the flow of produc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700" spc="-1" strike="noStrike">
                <a:solidFill>
                  <a:srgbClr val="000000"/>
                </a:solidFill>
                <a:latin typeface="Georgia"/>
                <a:ea typeface="方正舒体"/>
              </a:rPr>
              <a:t>There is sufficient space for plant operations including processing,cleaning and maintenance Space is also required for movement of materials and pedestria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  <a:ea typeface="方正舒体"/>
              </a:rPr>
              <a:t>Experiment design and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  <a:ea typeface="方正舒体"/>
              </a:rPr>
              <a:t>screening result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534520" cy="7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Product acceptability and preference </a:t>
            </a:r>
            <a:br>
              <a:rPr sz="3200"/>
            </a:b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experiment design</a:t>
            </a:r>
            <a:br>
              <a:rPr sz="3000"/>
            </a:b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24000" y="134136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80000"/>
              </a:lnSpc>
              <a:spcBef>
                <a:spcPts val="2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Preference test using </a:t>
            </a:r>
            <a:r>
              <a:rPr b="0" lang="en-US" sz="1900" spc="-1" strike="noStrike" u="sng">
                <a:solidFill>
                  <a:srgbClr val="e46c0a"/>
                </a:solidFill>
                <a:uFillTx/>
                <a:latin typeface="Georgia"/>
              </a:rPr>
              <a:t>9-point hedonic scale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Number of assessors was determined by using </a:t>
            </a:r>
            <a:r>
              <a:rPr b="0" lang="en-US" sz="1900" spc="-1" strike="noStrike">
                <a:solidFill>
                  <a:srgbClr val="e46c0a"/>
                </a:solidFill>
                <a:latin typeface="Georgia"/>
              </a:rPr>
              <a:t>complete block design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he questionnaire was designed using the Compusense fiv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ample portions: of 30mL ,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方正舒体"/>
              </a:rPr>
              <a:t>at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en-US" sz="19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 in clear plastic glasses assigned a three- digit random numbe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amples were presented in balance, random order according to randomised block design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ll samples prepared the same day of the test, with same way, same raw materials , same condition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lnSpc>
                <a:spcPct val="80000"/>
              </a:lnSpc>
              <a:spcBef>
                <a:spcPts val="476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Product acceptability and preference experiment design</a:t>
            </a:r>
            <a:br>
              <a:rPr sz="3800"/>
            </a:b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68000" y="1197000"/>
            <a:ext cx="8280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eference test with 9-point hedonic scale was conduct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number of assessors was determined by using completed block desig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the questionnaire was designed using the compusense fiv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sample portions of 30 ml were served at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 in clear plastic cup assigned a three-digit random numb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samples were presented in balance, random order according to block desig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方正舒体"/>
              </a:rPr>
              <a:t>all samples were prepared on the same day of the test, with the same way, using the same raw materials and under the same condition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方正舒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矩形 3"/>
          <p:cNvSpPr/>
          <p:nvPr/>
        </p:nvSpPr>
        <p:spPr>
          <a:xfrm>
            <a:off x="2977560" y="5732640"/>
            <a:ext cx="331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Table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. The 9-point hedonic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324000" y="4797360"/>
          <a:ext cx="8496000" cy="792360"/>
        </p:xfrm>
        <a:graphic>
          <a:graphicData uri="http://schemas.openxmlformats.org/drawingml/2006/table">
            <a:tbl>
              <a:tblPr/>
              <a:tblGrid>
                <a:gridCol w="1065240"/>
                <a:gridCol w="1095120"/>
                <a:gridCol w="851040"/>
                <a:gridCol w="852480"/>
                <a:gridCol w="979560"/>
                <a:gridCol w="819000"/>
                <a:gridCol w="942840"/>
                <a:gridCol w="912960"/>
                <a:gridCol w="977760"/>
              </a:tblGrid>
              <a:tr h="26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slike extre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slike very m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slike 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slike slight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 like or disli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ke slight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ke 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ke very m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ke extre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3cc82"/>
                      </a:solidFill>
                    </a:lnL>
                    <a:lnR w="5760">
                      <a:solidFill>
                        <a:srgbClr val="b3cc82"/>
                      </a:solidFill>
                    </a:lnR>
                    <a:lnT w="5760">
                      <a:solidFill>
                        <a:srgbClr val="b3cc82"/>
                      </a:solidFill>
                    </a:lnT>
                    <a:lnB w="5760">
                      <a:solidFill>
                        <a:srgbClr val="b3cc82"/>
                      </a:solidFill>
                    </a:lnB>
                    <a:solidFill>
                      <a:srgbClr val="cddd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34160" cy="7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Georgia"/>
              </a:rPr>
              <a:t>Product acceptability and preference experiment design</a:t>
            </a:r>
            <a:br>
              <a:rPr sz="3200"/>
            </a:b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41" name="Picture 2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565600" cy="1752840"/>
          </a:xfrm>
          <a:prstGeom prst="rect">
            <a:avLst/>
          </a:prstGeom>
          <a:ln w="0">
            <a:noFill/>
          </a:ln>
        </p:spPr>
      </p:pic>
      <p:sp>
        <p:nvSpPr>
          <p:cNvPr id="742" name="矩形 23"/>
          <p:cNvSpPr/>
          <p:nvPr/>
        </p:nvSpPr>
        <p:spPr>
          <a:xfrm>
            <a:off x="214200" y="4005360"/>
            <a:ext cx="87854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Georgia"/>
              </a:rPr>
              <a:t>16 samples: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LLLL, LLLH, LLHL, LLHH, LHLL, LHLH, LHHL, LH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LLL, HLLH, HLHL, HLHH, HHLL, HHLH, HHHL, HH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valuated for </a:t>
            </a:r>
            <a:r>
              <a:rPr b="0" lang="en-US" sz="2000" spc="-1" strike="noStrike">
                <a:solidFill>
                  <a:srgbClr val="e46c0a"/>
                </a:solidFill>
                <a:latin typeface="Georgia"/>
              </a:rPr>
              <a:t>overall accept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Georgia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untrained 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 </a:t>
            </a:r>
            <a:r>
              <a:rPr b="0" lang="en-US" sz="1800" spc="-1" strike="noStrike">
                <a:solidFill>
                  <a:srgbClr val="e46c0a"/>
                </a:solidFill>
                <a:latin typeface="Georgia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sessions (8 samples/s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2464560" y="3573720"/>
            <a:ext cx="42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Table 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Screening experiment: factors’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968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Georgia"/>
              </a:rPr>
              <a:t>Product acceptability and preference experiment design</a:t>
            </a:r>
            <a:endParaRPr b="0" lang="en-US" sz="3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45" name="Picture 2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381800" cy="1584360"/>
          </a:xfrm>
          <a:prstGeom prst="rect">
            <a:avLst/>
          </a:prstGeom>
          <a:ln w="0">
            <a:noFill/>
          </a:ln>
        </p:spPr>
      </p:pic>
      <p:sp>
        <p:nvSpPr>
          <p:cNvPr id="746" name="矩形 2"/>
          <p:cNvSpPr/>
          <p:nvPr/>
        </p:nvSpPr>
        <p:spPr>
          <a:xfrm>
            <a:off x="1835280" y="378936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ptimisation experiment, factors’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3"/>
          <p:cNvSpPr/>
          <p:nvPr/>
        </p:nvSpPr>
        <p:spPr>
          <a:xfrm>
            <a:off x="900000" y="465300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7709"/>
                </a:solidFill>
                <a:latin typeface="Georgia"/>
              </a:rPr>
              <a:t>9 samples: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L, LM, LH, ML, MM, MH, HL, HM, 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ined by </a:t>
            </a:r>
            <a:r>
              <a:rPr b="0" lang="en-US" sz="2000" spc="-1" strike="noStrike">
                <a:solidFill>
                  <a:srgbClr val="e57709"/>
                </a:solidFill>
                <a:latin typeface="Georgia"/>
              </a:rPr>
              <a:t>54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untrained 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7709"/>
                </a:solidFill>
                <a:latin typeface="Georgia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Screening results analysis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49" name="内容占位符 4" descr="未命名.jpg"/>
          <p:cNvPicPr/>
          <p:nvPr/>
        </p:nvPicPr>
        <p:blipFill>
          <a:blip r:embed="rId1"/>
          <a:stretch/>
        </p:blipFill>
        <p:spPr>
          <a:xfrm>
            <a:off x="1816200" y="1484280"/>
            <a:ext cx="5111640" cy="337824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2"/>
          <p:cNvSpPr/>
          <p:nvPr/>
        </p:nvSpPr>
        <p:spPr>
          <a:xfrm>
            <a:off x="250920" y="484092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For all attributes ,for overall acceptabilit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assessors prefer: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6c0a"/>
                </a:solidFill>
                <a:latin typeface="Calibri"/>
                <a:ea typeface="SimSun"/>
              </a:rPr>
              <a:t>low kiw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%, 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  <a:ea typeface="SimSun"/>
              </a:rPr>
              <a:t>low cow’s yoghur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% 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  <a:ea typeface="SimSun"/>
              </a:rPr>
              <a:t>,hig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% of 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  <a:ea typeface="SimSu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250920" y="55598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Assessors respon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shows that the products with 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  <a:ea typeface="SimSun"/>
              </a:rPr>
              <a:t>best sweetnes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are those with 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  <a:ea typeface="SimSun"/>
              </a:rPr>
              <a:t>midd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SimSun"/>
              </a:rPr>
              <a:t> % of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97909"/>
                </a:solidFill>
                <a:latin typeface="Georgia"/>
              </a:rPr>
              <a:t>Laboratory  Process Flowchart</a:t>
            </a:r>
            <a:endParaRPr b="0" lang="en-US" sz="44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22" name="Picture 2" descr="tofuYogurtKiwi.jpg"/>
          <p:cNvPicPr/>
          <p:nvPr/>
        </p:nvPicPr>
        <p:blipFill>
          <a:blip r:embed="rId1"/>
          <a:stretch/>
        </p:blipFill>
        <p:spPr>
          <a:xfrm>
            <a:off x="3635280" y="3860640"/>
            <a:ext cx="1790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7709"/>
                </a:solidFill>
                <a:latin typeface="Georgia"/>
              </a:rPr>
              <a:t>      </a:t>
            </a:r>
            <a:r>
              <a:rPr b="0" lang="en-US" sz="4400" spc="-1" strike="noStrike">
                <a:solidFill>
                  <a:srgbClr val="e57709"/>
                </a:solidFill>
                <a:latin typeface="Georgia"/>
              </a:rPr>
              <a:t>Optimization results analysi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Optimization result analysis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55" name="内容占位符 3" descr="overall 2.png"/>
          <p:cNvPicPr/>
          <p:nvPr/>
        </p:nvPicPr>
        <p:blipFill>
          <a:blip r:embed="rId1"/>
          <a:stretch/>
        </p:blipFill>
        <p:spPr>
          <a:xfrm>
            <a:off x="1044720" y="1600200"/>
            <a:ext cx="7054560" cy="377352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1"/>
          <p:cNvSpPr/>
          <p:nvPr/>
        </p:nvSpPr>
        <p:spPr>
          <a:xfrm>
            <a:off x="855000" y="5517720"/>
            <a:ext cx="71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SimSun"/>
              </a:rPr>
              <a:t>Figure 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SimSun"/>
              </a:rPr>
              <a:t>. Response surface plot for Kiwi flavor, (X1= % cow’s yogurt, X2=% kiwi ju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46c0a"/>
                </a:solidFill>
                <a:latin typeface="Georgia"/>
              </a:rPr>
              <a:t>Optimization results analysis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58" name="内容占位符 3" descr="3D-2.png"/>
          <p:cNvPicPr/>
          <p:nvPr/>
        </p:nvPicPr>
        <p:blipFill>
          <a:blip r:embed="rId1"/>
          <a:stretch/>
        </p:blipFill>
        <p:spPr>
          <a:xfrm>
            <a:off x="1044720" y="1600200"/>
            <a:ext cx="7054560" cy="3773520"/>
          </a:xfrm>
          <a:prstGeom prst="rect">
            <a:avLst/>
          </a:prstGeom>
          <a:ln w="0">
            <a:noFill/>
          </a:ln>
        </p:spPr>
      </p:pic>
      <p:sp>
        <p:nvSpPr>
          <p:cNvPr id="759" name="矩形 4"/>
          <p:cNvSpPr/>
          <p:nvPr/>
        </p:nvSpPr>
        <p:spPr>
          <a:xfrm>
            <a:off x="684360" y="5300640"/>
            <a:ext cx="82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gure 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sponse surface plot for milk flavor, (X1= % cow’s yogurt, X2=% kiwi juice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Optimization results analysis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61" name="内容占位符 3" descr="3D after remove.png"/>
          <p:cNvPicPr/>
          <p:nvPr/>
        </p:nvPicPr>
        <p:blipFill>
          <a:blip r:embed="rId1"/>
          <a:stretch/>
        </p:blipFill>
        <p:spPr>
          <a:xfrm>
            <a:off x="1000080" y="1569960"/>
            <a:ext cx="7053480" cy="3629160"/>
          </a:xfrm>
          <a:prstGeom prst="rect">
            <a:avLst/>
          </a:prstGeom>
          <a:ln w="0">
            <a:noFill/>
          </a:ln>
        </p:spPr>
      </p:pic>
      <p:sp>
        <p:nvSpPr>
          <p:cNvPr id="762" name="Rectangle 1"/>
          <p:cNvSpPr/>
          <p:nvPr/>
        </p:nvSpPr>
        <p:spPr>
          <a:xfrm>
            <a:off x="567000" y="5229720"/>
            <a:ext cx="79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SimSun"/>
              </a:rPr>
              <a:t>Figure 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SimSun"/>
              </a:rPr>
              <a:t>. Response surface plot for overall acceptability, (X1= % cow’s yogurt, X2=% kiwi ju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5"/>
          <p:cNvSpPr/>
          <p:nvPr/>
        </p:nvSpPr>
        <p:spPr>
          <a:xfrm>
            <a:off x="1187280" y="56610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est formulation for percentage of kiwi juice and cow’s yogurt is at </a:t>
            </a:r>
            <a:r>
              <a:rPr b="0" lang="en-US" sz="1800" spc="-1" strike="noStrike">
                <a:solidFill>
                  <a:srgbClr val="e46c0a"/>
                </a:solidFill>
                <a:latin typeface="Georgia"/>
              </a:rPr>
              <a:t>14.5%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0" lang="en-US" sz="1800" spc="-1" strike="noStrike">
                <a:solidFill>
                  <a:srgbClr val="e46c0a"/>
                </a:solidFill>
                <a:latin typeface="Georgia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7709"/>
                </a:solidFill>
                <a:latin typeface="Georgia"/>
              </a:rPr>
              <a:t>Product formulation and Process specification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  <a:ea typeface="方正舒体"/>
              </a:rPr>
              <a:t>Raw material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67" name="内容占位符 3" descr=""/>
          <p:cNvPicPr/>
          <p:nvPr/>
        </p:nvPicPr>
        <p:blipFill>
          <a:blip r:embed="rId1"/>
          <a:stretch/>
        </p:blipFill>
        <p:spPr>
          <a:xfrm>
            <a:off x="1328760" y="1700280"/>
            <a:ext cx="6248520" cy="3262320"/>
          </a:xfrm>
          <a:prstGeom prst="rect">
            <a:avLst/>
          </a:prstGeom>
          <a:ln w="0">
            <a:noFill/>
          </a:ln>
        </p:spPr>
      </p:pic>
      <p:sp>
        <p:nvSpPr>
          <p:cNvPr id="768" name="矩形 4"/>
          <p:cNvSpPr/>
          <p:nvPr/>
        </p:nvSpPr>
        <p:spPr>
          <a:xfrm>
            <a:off x="2347920" y="5084640"/>
            <a:ext cx="409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ble 4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Raw material specification for lab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46c0a"/>
                </a:solidFill>
                <a:latin typeface="Georgia"/>
                <a:ea typeface="方正舒体"/>
              </a:rPr>
              <a:t>Process specifica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94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Hygie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Microbiological and chemical paramet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Product specifica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9280" y="1557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Raw materia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pH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S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emperatur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% of fa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SNF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46c0a"/>
                </a:solidFill>
                <a:latin typeface="Georgia"/>
              </a:rPr>
              <a:t>Packaging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5" name="Rounded Rectangle 3"/>
          <p:cNvSpPr/>
          <p:nvPr/>
        </p:nvSpPr>
        <p:spPr>
          <a:xfrm>
            <a:off x="684360" y="2060640"/>
            <a:ext cx="1584000" cy="7920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ounded Rectangle 4"/>
          <p:cNvSpPr/>
          <p:nvPr/>
        </p:nvSpPr>
        <p:spPr>
          <a:xfrm>
            <a:off x="3635280" y="2060640"/>
            <a:ext cx="1873440" cy="79200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ounded Rectangle 5"/>
          <p:cNvSpPr/>
          <p:nvPr/>
        </p:nvSpPr>
        <p:spPr>
          <a:xfrm>
            <a:off x="6732720" y="1989000"/>
            <a:ext cx="15843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orgia"/>
              </a:rPr>
              <a:t>Tert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Down Arrow 9"/>
          <p:cNvSpPr/>
          <p:nvPr/>
        </p:nvSpPr>
        <p:spPr>
          <a:xfrm>
            <a:off x="1332000" y="2924280"/>
            <a:ext cx="360360" cy="4334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Down Arrow 10"/>
          <p:cNvSpPr/>
          <p:nvPr/>
        </p:nvSpPr>
        <p:spPr>
          <a:xfrm>
            <a:off x="7380360" y="2924280"/>
            <a:ext cx="360360" cy="4334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Down Arrow 11"/>
          <p:cNvSpPr/>
          <p:nvPr/>
        </p:nvSpPr>
        <p:spPr>
          <a:xfrm>
            <a:off x="4427640" y="2997360"/>
            <a:ext cx="431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12"/>
          <p:cNvSpPr/>
          <p:nvPr/>
        </p:nvSpPr>
        <p:spPr>
          <a:xfrm>
            <a:off x="684360" y="4076640"/>
            <a:ext cx="1655640" cy="1081080"/>
          </a:xfrm>
          <a:prstGeom prst="ellipse">
            <a:avLst/>
          </a:prstGeom>
          <a:solidFill>
            <a:srgbClr val="d2cddc"/>
          </a:solidFill>
          <a:ln w="9360">
            <a:solidFill>
              <a:srgbClr val="8064a2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250 ml P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13"/>
          <p:cNvSpPr/>
          <p:nvPr/>
        </p:nvSpPr>
        <p:spPr>
          <a:xfrm>
            <a:off x="3851280" y="4005360"/>
            <a:ext cx="1873080" cy="1152360"/>
          </a:xfrm>
          <a:prstGeom prst="ellipse">
            <a:avLst/>
          </a:prstGeom>
          <a:solidFill>
            <a:srgbClr val="d2cddc"/>
          </a:solidFill>
          <a:ln w="9360">
            <a:solidFill>
              <a:srgbClr val="8064a2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ar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14"/>
          <p:cNvSpPr/>
          <p:nvPr/>
        </p:nvSpPr>
        <p:spPr>
          <a:xfrm>
            <a:off x="6875640" y="3860640"/>
            <a:ext cx="1584000" cy="1224000"/>
          </a:xfrm>
          <a:prstGeom prst="ellipse">
            <a:avLst/>
          </a:prstGeom>
          <a:solidFill>
            <a:srgbClr val="d2cddc"/>
          </a:solidFill>
          <a:ln w="9360">
            <a:solidFill>
              <a:srgbClr val="8064a2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ight Arrow 15"/>
          <p:cNvSpPr/>
          <p:nvPr/>
        </p:nvSpPr>
        <p:spPr>
          <a:xfrm>
            <a:off x="2627280" y="4508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ight Arrow 16"/>
          <p:cNvSpPr/>
          <p:nvPr/>
        </p:nvSpPr>
        <p:spPr>
          <a:xfrm>
            <a:off x="6084720" y="4437000"/>
            <a:ext cx="432000" cy="28728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  <a:ea typeface="方正舒体"/>
              </a:rPr>
              <a:t>Conclus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199"/>
              </a:spcBef>
              <a:spcAft>
                <a:spcPts val="1199"/>
              </a:spcAft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escription of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  <a:ea typeface="方正舒体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rocess  and equipment flowcharts, and check if the production process is in compliance with relevant regul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1199"/>
              </a:spcBef>
              <a:spcAft>
                <a:spcPts val="1199"/>
              </a:spcAft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Factory layout design for the production proc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1199"/>
              </a:spcBef>
              <a:spcAft>
                <a:spcPts val="1199"/>
              </a:spcAft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Conduct product acceptability and preference t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1199"/>
              </a:spcBef>
              <a:spcAft>
                <a:spcPts val="1199"/>
              </a:spcAft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esign experiments for conducting product &amp; process optimis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1199"/>
              </a:spcBef>
              <a:spcAft>
                <a:spcPts val="1199"/>
              </a:spcAft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Determine product formulations &amp; the process formul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e97909"/>
                </a:solidFill>
                <a:latin typeface="Georgia"/>
              </a:rPr>
              <a:t>Laboratory  </a:t>
            </a:r>
            <a:r>
              <a:rPr b="0" lang="en-GB" sz="3300" spc="-1" strike="noStrike">
                <a:solidFill>
                  <a:srgbClr val="e46c0a"/>
                </a:solidFill>
                <a:latin typeface="Georgia"/>
              </a:rPr>
              <a:t>Process</a:t>
            </a:r>
            <a:r>
              <a:rPr b="0" lang="en-GB" sz="3300" spc="-1" strike="noStrike">
                <a:solidFill>
                  <a:srgbClr val="e97909"/>
                </a:solidFill>
                <a:latin typeface="Georgia"/>
              </a:rPr>
              <a:t> Flowchar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50560" y="1988640"/>
            <a:ext cx="850428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f6228"/>
                </a:solidFill>
                <a:latin typeface="Georgia"/>
              </a:rPr>
              <a:t>2 main process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25" name="Straight Arrow Connector 6"/>
          <p:cNvCxnSpPr/>
          <p:nvPr/>
        </p:nvCxnSpPr>
        <p:spPr>
          <a:xfrm flipH="1">
            <a:off x="3492000" y="2637000"/>
            <a:ext cx="504000" cy="505440"/>
          </a:xfrm>
          <a:prstGeom prst="straightConnector1">
            <a:avLst/>
          </a:prstGeom>
          <a:ln w="6336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626" name="Straight Arrow Connector 7"/>
          <p:cNvCxnSpPr/>
          <p:nvPr/>
        </p:nvCxnSpPr>
        <p:spPr>
          <a:xfrm>
            <a:off x="4716360" y="2636640"/>
            <a:ext cx="720000" cy="432360"/>
          </a:xfrm>
          <a:prstGeom prst="straightConnector1">
            <a:avLst/>
          </a:prstGeom>
          <a:ln w="63360">
            <a:solidFill>
              <a:srgbClr val="e46c0a"/>
            </a:solidFill>
            <a:miter/>
            <a:tailEnd len="med" type="arrow" w="med"/>
          </a:ln>
        </p:spPr>
      </p:cxnSp>
      <p:sp>
        <p:nvSpPr>
          <p:cNvPr id="627" name="Rounded Rectangle 15"/>
          <p:cNvSpPr/>
          <p:nvPr/>
        </p:nvSpPr>
        <p:spPr>
          <a:xfrm>
            <a:off x="1403280" y="3213000"/>
            <a:ext cx="2592360" cy="1079640"/>
          </a:xfrm>
          <a:prstGeom prst="roundRect">
            <a:avLst>
              <a:gd name="adj" fmla="val 16667"/>
            </a:avLst>
          </a:prstGeom>
          <a:solidFill>
            <a:srgbClr val="fbd8c8"/>
          </a:solidFill>
          <a:ln w="9360">
            <a:solidFill>
              <a:srgbClr val="f79646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6"/>
          <p:cNvSpPr/>
          <p:nvPr/>
        </p:nvSpPr>
        <p:spPr>
          <a:xfrm>
            <a:off x="5364000" y="3213000"/>
            <a:ext cx="28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Kiwi juice ext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ounded Rectangle 18"/>
          <p:cNvSpPr/>
          <p:nvPr/>
        </p:nvSpPr>
        <p:spPr>
          <a:xfrm>
            <a:off x="5435640" y="3213000"/>
            <a:ext cx="2592360" cy="1079640"/>
          </a:xfrm>
          <a:prstGeom prst="roundRect">
            <a:avLst>
              <a:gd name="adj" fmla="val 16667"/>
            </a:avLst>
          </a:prstGeom>
          <a:solidFill>
            <a:srgbClr val="fbd8c8"/>
          </a:solidFill>
          <a:ln w="9360">
            <a:solidFill>
              <a:srgbClr val="f79646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9"/>
          <p:cNvSpPr/>
          <p:nvPr/>
        </p:nvSpPr>
        <p:spPr>
          <a:xfrm>
            <a:off x="5508720" y="3429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iwi juice ex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21"/>
          <p:cNvSpPr/>
          <p:nvPr/>
        </p:nvSpPr>
        <p:spPr>
          <a:xfrm>
            <a:off x="1403280" y="3429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gurt fer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0" descr="yogurt.jpg"/>
          <p:cNvPicPr/>
          <p:nvPr/>
        </p:nvPicPr>
        <p:blipFill>
          <a:blip r:embed="rId1"/>
          <a:stretch/>
        </p:blipFill>
        <p:spPr>
          <a:xfrm>
            <a:off x="3059280" y="4437000"/>
            <a:ext cx="1584000" cy="1800360"/>
          </a:xfrm>
          <a:prstGeom prst="rect">
            <a:avLst/>
          </a:prstGeom>
          <a:ln w="0">
            <a:noFill/>
          </a:ln>
        </p:spPr>
      </p:pic>
      <p:sp>
        <p:nvSpPr>
          <p:cNvPr id="633" name="Plus 11"/>
          <p:cNvSpPr/>
          <p:nvPr/>
        </p:nvSpPr>
        <p:spPr>
          <a:xfrm>
            <a:off x="2268360" y="4581360"/>
            <a:ext cx="719280" cy="648000"/>
          </a:xfrm>
          <a:custGeom>
            <a:avLst/>
            <a:gdLst>
              <a:gd name="textAreaLeft" fmla="*/ 95040 w 719280"/>
              <a:gd name="textAreaRight" fmla="*/ 624240 w 719280"/>
              <a:gd name="textAreaTop" fmla="*/ 247680 h 648000"/>
              <a:gd name="textAreaBottom" fmla="*/ 400320 h 648000"/>
            </a:gdLst>
            <a:ahLst/>
            <a:rect l="textAreaLeft" t="textAreaTop" r="textAreaRight" b="textAreaBottom"/>
            <a:pathLst>
              <a:path w="719137" h="647700">
                <a:moveTo>
                  <a:pt x="95322" y="247680"/>
                </a:moveTo>
                <a:lnTo>
                  <a:pt x="283399" y="247680"/>
                </a:lnTo>
                <a:lnTo>
                  <a:pt x="283399" y="85853"/>
                </a:lnTo>
                <a:lnTo>
                  <a:pt x="435738" y="85853"/>
                </a:lnTo>
                <a:lnTo>
                  <a:pt x="435738" y="247680"/>
                </a:lnTo>
                <a:lnTo>
                  <a:pt x="623815" y="247680"/>
                </a:lnTo>
                <a:lnTo>
                  <a:pt x="623815" y="400020"/>
                </a:lnTo>
                <a:lnTo>
                  <a:pt x="435738" y="400020"/>
                </a:lnTo>
                <a:lnTo>
                  <a:pt x="435738" y="561847"/>
                </a:lnTo>
                <a:lnTo>
                  <a:pt x="283399" y="561847"/>
                </a:lnTo>
                <a:lnTo>
                  <a:pt x="283399" y="400020"/>
                </a:lnTo>
                <a:lnTo>
                  <a:pt x="95322" y="400020"/>
                </a:lnTo>
                <a:close/>
              </a:path>
            </a:pathLst>
          </a:custGeom>
          <a:solidFill>
            <a:srgbClr val="4f81bd"/>
          </a:solidFill>
          <a:ln w="11520">
            <a:solidFill>
              <a:srgbClr val="385d8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13" descr="alpro.jpg"/>
          <p:cNvPicPr/>
          <p:nvPr/>
        </p:nvPicPr>
        <p:blipFill>
          <a:blip r:embed="rId2"/>
          <a:stretch/>
        </p:blipFill>
        <p:spPr>
          <a:xfrm>
            <a:off x="250920" y="4437000"/>
            <a:ext cx="2017440" cy="19051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4" descr="kiwis_small.jpg"/>
          <p:cNvPicPr/>
          <p:nvPr/>
        </p:nvPicPr>
        <p:blipFill>
          <a:blip r:embed="rId3"/>
          <a:stretch/>
        </p:blipFill>
        <p:spPr>
          <a:xfrm>
            <a:off x="5580000" y="4437000"/>
            <a:ext cx="2376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97909"/>
                </a:solidFill>
                <a:latin typeface="Georgia"/>
              </a:rPr>
              <a:t>Plan of ac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301680" y="1557360"/>
            <a:ext cx="8504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7933c"/>
                </a:solidFill>
                <a:latin typeface="Georg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92" name="Picture 3" descr="St.Patricks Day Shamrock Smoothies_2380688981.jpg"/>
          <p:cNvPicPr/>
          <p:nvPr/>
        </p:nvPicPr>
        <p:blipFill>
          <a:blip r:embed="rId1"/>
          <a:stretch/>
        </p:blipFill>
        <p:spPr>
          <a:xfrm>
            <a:off x="2916360" y="3141720"/>
            <a:ext cx="3456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Laboratory Process Flowchart – </a:t>
            </a:r>
            <a:r>
              <a:rPr b="0" i="1" lang="en-US" sz="3600" spc="-1" strike="noStrike">
                <a:solidFill>
                  <a:srgbClr val="e46c0a"/>
                </a:solidFill>
                <a:latin typeface="Georgia"/>
              </a:rPr>
              <a:t>Yogurt Fermenta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37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631360" cy="4584960"/>
          </a:xfrm>
          <a:prstGeom prst="rect">
            <a:avLst/>
          </a:prstGeom>
          <a:ln w="0">
            <a:noFill/>
          </a:ln>
        </p:spPr>
      </p:pic>
      <p:sp>
        <p:nvSpPr>
          <p:cNvPr id="638" name="Right Arrow 4"/>
          <p:cNvSpPr/>
          <p:nvPr/>
        </p:nvSpPr>
        <p:spPr>
          <a:xfrm>
            <a:off x="8388360" y="292428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7709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Laboratory Process Flowchart – </a:t>
            </a:r>
            <a:r>
              <a:rPr b="0" i="1" lang="en-US" sz="3600" spc="-1" strike="noStrike">
                <a:solidFill>
                  <a:srgbClr val="e46c0a"/>
                </a:solidFill>
                <a:latin typeface="Georgia"/>
              </a:rPr>
              <a:t>Yogurt Fermentation</a:t>
            </a:r>
            <a:br>
              <a:rPr sz="3000"/>
            </a:b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40" name="Content Placeholder 3" descr=""/>
          <p:cNvPicPr/>
          <p:nvPr/>
        </p:nvPicPr>
        <p:blipFill>
          <a:blip r:embed="rId1"/>
          <a:stretch/>
        </p:blipFill>
        <p:spPr>
          <a:xfrm>
            <a:off x="401760" y="1620720"/>
            <a:ext cx="8254800" cy="4200480"/>
          </a:xfrm>
          <a:prstGeom prst="rect">
            <a:avLst/>
          </a:prstGeom>
          <a:ln w="0">
            <a:noFill/>
          </a:ln>
        </p:spPr>
      </p:pic>
      <p:sp>
        <p:nvSpPr>
          <p:cNvPr id="641" name="Right Arrow 4"/>
          <p:cNvSpPr/>
          <p:nvPr/>
        </p:nvSpPr>
        <p:spPr>
          <a:xfrm>
            <a:off x="8604360" y="299736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7709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ight Arrow 5"/>
          <p:cNvSpPr/>
          <p:nvPr/>
        </p:nvSpPr>
        <p:spPr>
          <a:xfrm>
            <a:off x="179280" y="299736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7709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Georgia"/>
              </a:rPr>
              <a:t>Laboratory Process Flowchart – </a:t>
            </a:r>
            <a:r>
              <a:rPr b="0" i="1" lang="en-US" sz="3600" spc="-1" strike="noStrike">
                <a:solidFill>
                  <a:srgbClr val="e46c0a"/>
                </a:solidFill>
                <a:latin typeface="Georgia"/>
              </a:rPr>
              <a:t>Kiwi juice extraction</a:t>
            </a:r>
            <a:endParaRPr b="0" lang="en-US" sz="36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44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577360" cy="4584960"/>
          </a:xfrm>
          <a:prstGeom prst="rect">
            <a:avLst/>
          </a:prstGeom>
          <a:ln w="0">
            <a:noFill/>
          </a:ln>
        </p:spPr>
      </p:pic>
      <p:sp>
        <p:nvSpPr>
          <p:cNvPr id="645" name="TextBox 8"/>
          <p:cNvSpPr/>
          <p:nvPr/>
        </p:nvSpPr>
        <p:spPr>
          <a:xfrm>
            <a:off x="684360" y="2852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sh ki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ight Arrow 10"/>
          <p:cNvSpPr/>
          <p:nvPr/>
        </p:nvSpPr>
        <p:spPr>
          <a:xfrm>
            <a:off x="8532720" y="292428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7709"/>
          </a:solidFill>
          <a:ln w="1152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46c0a"/>
                </a:solidFill>
                <a:latin typeface="Georgia"/>
              </a:rPr>
              <a:t>Laboratory Process Flowchart – </a:t>
            </a:r>
            <a:r>
              <a:rPr b="0" i="1" lang="en-US" sz="2900" spc="-1" strike="noStrike">
                <a:solidFill>
                  <a:srgbClr val="e46c0a"/>
                </a:solidFill>
                <a:latin typeface="Georgia"/>
              </a:rPr>
              <a:t>Kiwi juice extraction</a:t>
            </a:r>
            <a:endParaRPr b="0" lang="en-US" sz="29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48" name="Content Placeholder 3" descr=""/>
          <p:cNvPicPr/>
          <p:nvPr/>
        </p:nvPicPr>
        <p:blipFill>
          <a:blip r:embed="rId1"/>
          <a:stretch/>
        </p:blipFill>
        <p:spPr>
          <a:xfrm>
            <a:off x="237960" y="1523880"/>
            <a:ext cx="8631360" cy="4584960"/>
          </a:xfrm>
          <a:prstGeom prst="rect">
            <a:avLst/>
          </a:prstGeom>
          <a:ln w="0">
            <a:noFill/>
          </a:ln>
        </p:spPr>
      </p:pic>
      <p:sp>
        <p:nvSpPr>
          <p:cNvPr id="649" name="Right Arrow 5"/>
          <p:cNvSpPr/>
          <p:nvPr/>
        </p:nvSpPr>
        <p:spPr>
          <a:xfrm>
            <a:off x="368280" y="292428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97909"/>
          </a:solidFill>
          <a:ln w="11520">
            <a:solidFill>
              <a:srgbClr val="e979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ight Arrow 6"/>
          <p:cNvSpPr/>
          <p:nvPr/>
        </p:nvSpPr>
        <p:spPr>
          <a:xfrm>
            <a:off x="8317080" y="2876400"/>
            <a:ext cx="3585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97909"/>
          </a:solidFill>
          <a:ln w="11520">
            <a:solidFill>
              <a:srgbClr val="e979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3:56:15Z</dcterms:created>
  <dc:creator>merian</dc:creator>
  <dc:description/>
  <dc:language>en-US</dc:language>
  <cp:lastModifiedBy>MAPS Faculty</cp:lastModifiedBy>
  <dcterms:modified xsi:type="dcterms:W3CDTF">2011-07-08T09:21:24Z</dcterms:modified>
  <cp:revision>103</cp:revision>
  <dc:subject/>
  <dc:title>Yogurt based food: ‘Soy yogurt drink with kiwi Flavour’   Unit III: Defining product and process specifications</dc:title>
</cp:coreProperties>
</file>